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BA8-1D26-46F9-B095-277B2A25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859-D944-49F8-A7C8-683A82C8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94A-CE68-43EC-92F0-33D79DA9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8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9600" y="249228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40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8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9600" y="4372920"/>
            <a:ext cx="273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04D-2EAC-4CA3-A334-30DE61FC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953-C872-4B2A-B620-040E13D6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7F2-C1A5-417B-A7D6-6ACF0D22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46B-4254-4FC3-90AD-DB8065AC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AB0-53D0-44BE-9835-58441E60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1638000"/>
            <a:ext cx="849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445-ABF2-45F3-ABE8-214FD037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688-147B-4E68-887B-650BC2D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480" y="437292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ECA-C708-4722-B943-BCA4C45E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480" y="2492280"/>
            <a:ext cx="4145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4000" y="4372920"/>
            <a:ext cx="84960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A20F-CA39-4426-8336-27D7C0FE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638000"/>
            <a:ext cx="84960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2492280"/>
            <a:ext cx="849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D559-BA60-4CB4-88A5-F63259DAE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hitelogo"/>
          <p:cNvPicPr/>
          <p:nvPr/>
        </p:nvPicPr>
        <p:blipFill>
          <a:blip r:embed="rId3"/>
          <a:stretch/>
        </p:blipFill>
        <p:spPr>
          <a:xfrm>
            <a:off x="179280" y="6381720"/>
            <a:ext cx="1554120" cy="3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50920" y="6381720"/>
            <a:ext cx="252252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13:36:18Z</dcterms:created>
  <dc:creator>Kris Calver</dc:creator>
  <dc:description/>
  <dc:language>en-US</dc:language>
  <cp:lastModifiedBy>Elizabeth King</cp:lastModifiedBy>
  <dcterms:modified xsi:type="dcterms:W3CDTF">2023-09-05T20:28:03Z</dcterms:modified>
  <cp:revision>3</cp:revision>
  <dc:subject/>
  <dc:title>Slide 1</dc:title>
</cp:coreProperties>
</file>