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01A-FD16-4B10-935C-4471B08B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0BF-3127-4F67-B35F-987E9A5E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4874D-D528-4E11-B4AA-9F0BA24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4F386-5689-4135-910F-902A2788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34CD1-3B71-4BB3-A348-665A8F9F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E5A7E-5B27-49BB-AB55-68E2E225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71D89-607A-4F55-B14B-4196B74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E6D55-E76F-4C2E-951E-60D0FEBF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4229E-4090-4702-A1AA-1BB9C8A5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4DCCC-B4E8-4300-B0D7-28CF8697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4BE3D-453B-46DC-8D24-C899F38A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361F9-BF74-4F26-A872-41BF12EE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BB7-CC47-49D7-B2F5-5C5F43DA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9AD28-6745-4745-BEF0-0196C643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4FC8-15D5-46D9-AF41-E3C28337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5F6A3-CBCE-4697-94A9-C6240D2C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427FB-6B5A-454F-B706-10D3A1BE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B4018-EF74-4E12-9C9C-B0FFABF6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6E7FB-46EB-46A3-AAE7-F48EF9B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7A1C6-360B-47C5-9CD4-0E115682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0541D-A840-42D7-9779-DD8A5138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339B7-10D0-4883-8D65-45770E3A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4DB5B-CD58-48A3-930F-3742071B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6198-31B3-448F-B5AC-ADD97749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63586-FFD7-4FFD-BF8F-2B87A3FB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FC1D0-7C1F-4F8D-BE55-B6080F89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0085-885C-4DE6-A6A5-EA345C60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9E331-5FB9-46B6-ABDD-C0B48B7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6C840-B52A-4D95-94B4-ACF17136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62E78-76ED-4A4F-900E-BA76F704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0299B-66A5-4096-880D-D3BCF5FE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6A6C6-B4B2-41DA-B649-F658A42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372ED-C3AF-4F19-B78C-EB942718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75A32-FBCD-4990-A6DB-1C19603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47C3-7B4A-4B70-AF1D-CC13D31E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03804-314C-4CEF-875F-DB0F433C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B16EA-CA2D-4DF4-995C-BFAE048F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9301A-AE5A-478D-BB69-C41AB7DC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6ED14-7544-4EFC-9AEB-4F2B2BDB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07E7B-B630-4893-9CC5-D29552F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AB881-7CB9-4E26-98B7-70F5DC2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6FA0A-5FCB-4ADD-92A4-BFA69A59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4A434-8F56-4ED2-91C0-9F23694C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F86C2-F54D-4D56-AD4E-5C4ECE16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A664A-8066-46A6-BA10-3EDABFC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8B8F-304C-4A04-9AD5-F8638CAE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65526-08A8-48CF-A042-8A930A7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9A119-F368-4F9F-B7A8-0A8D2188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B5F46-F97A-49F9-AAFD-35AA265C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10106-4810-4E61-B032-FC3BC919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F2E45-2E8C-42F5-A797-DF082726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2335-9DCA-4C29-97F4-8BA31B2C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D241-02BA-437C-B634-93D485F1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3682-8291-40CA-8979-D699A17B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F0C6-EAB7-454E-B418-68EFB16B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DA9E-F376-4FE6-9E83-F14F6F69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108-4FF5-4AA8-ACF6-288A837F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1DB0-E4A0-41AA-B5B1-A6579512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6002-644B-452A-9141-94D2C084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487F-734D-4163-8451-723881DA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C660-D514-4F71-9B31-C4194B31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F1C0-9DE3-4D09-8C91-21302DC4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2A6D-EAA2-4B3E-96F0-5126DC3B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C3089-6318-444F-B803-4B148CE9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780B-A2E1-4946-BC0A-C81B51F7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8ABDB-719C-45DD-B542-E9E3BB73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8BD5-3E9A-47CF-9397-D028A4A0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043-0AC9-4066-8BF9-D6DEF630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3F76B-1E77-4274-9738-65EFAE65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2D3F-17E7-412B-AED6-90FE6EF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78B49-DE80-4C27-B388-384757C2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9929A-1308-465C-AE3B-3E63FC7E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B8BF-1A90-4346-945E-643BF1D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24AE-32F9-405E-AF8A-6FE61547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D81A-8B99-4ADC-8CD8-E2FF293F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2256-78AD-4DB7-BCF8-25D9C3FA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7FF2-70BD-4520-9C70-65BE889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DE32-C1BA-423A-9406-E7E7283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1DF-4498-4378-B007-DFB8879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B289-03BB-4155-93BF-1C804992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3ECD-8282-4644-B1E4-03AAD7B2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F3E0-BE03-40D3-8524-B045430C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47F65-A70E-43BC-A764-81A9A8E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FAE7B-94C9-4C92-A60D-25A69FCC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FE06-5BD0-498B-9456-B4CE925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1520-7A73-4E93-A079-FE21C84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4258-E1DB-4B76-97F2-DBB1DF47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28AD-A3C3-490A-A1BC-90972C0D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5877-7782-4F4D-8B04-B36A1AC9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4C2-41CE-4216-A6C0-FEBEF361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6CA3-F632-4F1D-905D-1DA7F80C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12C6-41BE-407B-9536-6410D4E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A7360-DBB5-4B61-AF27-9FB4E9F4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EA2B7-26D7-4F61-8A6D-7EA6F132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70190-72ED-4990-A290-1CDE770C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901F-A674-413B-B955-7821919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7A1E2-86A6-4722-B0B6-D31A432F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11B5-C1F0-434F-9B89-624BE303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A18E-C8AA-4D47-A03E-A3B9A976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421C6-2731-4132-803F-C3A8D997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3D8-9927-4D83-ACEA-3631CF35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65B0C-34AC-4116-B425-F938AF61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6E273-D999-4F50-B560-777F977A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40AB-602E-414E-A446-605B9B22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6BD8-E32A-4640-AAD2-655BB063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95356-9088-4339-8E8D-5A5530D6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EE1C-9086-4DF5-83E5-88E4C406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EE46-87BD-4531-9037-DEE9057F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B1544-B922-4621-81A9-7A84339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AA1D-587F-4EA8-AE92-5AEB4044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D34AB-6D86-4C49-82ED-AB1DE9D3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461-5D88-4CF1-82D1-FF38BC4D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DE32F-5B1F-4F66-947A-7435DFD9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80782-C0D8-47B0-A85C-C5BE46A0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99BB-E8FA-4458-9A2B-0AF3D1F3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30B8-E1CD-4F87-BCFA-AB3A4F21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B7574-154B-43E9-A6A6-8E015760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0766-0DA7-4C7D-AB60-191F2177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4A85-5405-4696-9AE8-8EBBDD84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8B776-3BC8-40F0-9F26-DA0362F4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E2077-9D31-4594-B41A-87FE25B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439FF-649F-4033-92CB-391134D3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810-6D6F-4499-BE71-10A48B42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969D-09B4-4FC7-9D6C-7DB13BA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B97C-79B8-4AF3-AEE2-8B74ED8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EBB5-D52C-4F5E-891E-06692558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F5B21-4625-47AA-9ED6-006EC042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AE5EB-F4B2-4391-B044-17CBC864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F91C3-CDC2-4525-9461-2F18BE55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5CB4E-5102-43AA-A3D1-508BA78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3D7E-4FD8-46A9-BBF5-46C72B8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320F-B327-4EAD-9BF0-7BCE49B8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FC546-5660-425A-BC29-F89E3049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C2B-C7C9-44C7-8C19-C5D4D8B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882FD-0B97-45C8-AFBA-55FEEE86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7740E-C5DA-469D-9A1B-A78582C6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CA002-91F2-4154-B851-E489FF0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D9F4B-50CC-458C-B2CC-CE6AEFD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F157F-F20F-4686-AEFE-707B9865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EA406-4DDC-43DE-A32F-C2623625A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27F8-D70F-4238-BAFA-929BBAD6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5669F-6373-41F1-AE12-3378F03E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3DE75-F86B-49B7-A396-593D5B29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1C6E2-E5DE-4155-8CA8-87205F0A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2A07-EAB5-4296-A2C1-3F6A5AC6A4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whitelogo"/>
          <p:cNvPicPr/>
          <p:nvPr/>
        </p:nvPicPr>
        <p:blipFill>
          <a:blip r:embed="rId3"/>
          <a:stretch/>
        </p:blipFill>
        <p:spPr>
          <a:xfrm>
            <a:off x="179280" y="6381720"/>
            <a:ext cx="155412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342-5FF0-4CDA-9D84-0FF58209FE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7A54-9697-4201-9A1E-C859E5269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14B-9C66-440F-A1B4-BB03C2A667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F7B2-654C-4DD7-9F53-F919B34043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3CA0-A532-43F9-B6B1-ACC4F3AF6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A89-B9AC-4D14-A96A-C3C8C8B220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2BEB-C692-436A-9046-F5CE1E212B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6E63-0BF5-40D6-8C3D-D3BF1A54F4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E42F-7003-4242-A4E3-BD4A4A61C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EBAD-2708-46C2-A44C-41119B971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C2F6-7312-4498-B3DE-948ED22A93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Arial"/>
              </a:rPr>
              <a:t>Shocking news!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Jesus escape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and that was just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beginning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o do you say I a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hat’s impossible – </a:t>
            </a:r>
            <a:br>
              <a:rPr sz="6000"/>
            </a:b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she can’t be pregnant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at will Joseph sa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ings get even more complicate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820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s this the end of the sto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What happens nex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ut not everyone is </a:t>
            </a:r>
            <a:br>
              <a:rPr sz="5400"/>
            </a:b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so happ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The wise men wise up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utwitte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324000" y="6453360"/>
            <a:ext cx="1765080" cy="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3:36:18Z</dcterms:created>
  <dc:creator>Kris Calver</dc:creator>
  <dc:description/>
  <dc:language>en-US</dc:language>
  <cp:lastModifiedBy>Elizabeth King</cp:lastModifiedBy>
  <dcterms:modified xsi:type="dcterms:W3CDTF">2023-09-05T20:10:33Z</dcterms:modified>
  <cp:revision>5</cp:revision>
  <dc:subject/>
  <dc:title>Slide 1</dc:title>
</cp:coreProperties>
</file>